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FFC-C661-4A5F-92D5-4C70DE58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0162-74DD-4182-96CD-D7CC4111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641-0142-49E2-A265-27B416E8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1D57-63BD-45BC-855C-129FE675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601-814B-438B-81BE-AD442EFF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27F-420D-4719-BD72-FE7AE029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22E0-7599-4E93-8ADE-D81C9908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49D-C3B9-485A-8CB9-FE2C3CAF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1ED6-89A9-4F91-A911-95C3CB10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2D6-755B-498E-A01F-94037E5A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ACD-5B8E-467E-9E2D-FAF03D02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26E4-5774-4D8E-A749-3C2C7002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ACA-7D12-4A2F-BDF6-57819811F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спирантура – специальность – дата защиты кандидатской диссер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ок обучения в докторантуре (го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чный консуль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новные научные результаты за последние 3 г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бласти критических технологий и приоритетных направлений фундаментальных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крытия, патен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нографии, учебники, стат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личие охранных документов на объекты промышленной собственности и объекты авторского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али, премии, дипломы конференций, конкурсов, выставок (в т.ч. в качестве научного руководител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подготовка аспирантов, кандидатов наук за последние 5 ле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совершенствования учебного процесса (учебные пособия, методические указания, методики преподав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3:14:48Z</dcterms:created>
  <dc:creator>Мухамедзянова</dc:creator>
  <dc:description/>
  <dc:language>en-US</dc:language>
  <cp:lastModifiedBy>Наука</cp:lastModifiedBy>
  <dcterms:modified xsi:type="dcterms:W3CDTF">2009-03-27T07:06:17Z</dcterms:modified>
  <cp:revision>12</cp:revision>
  <dc:subject/>
  <dc:title>О себе (возраст, школа, ВУЗ, аспирантура  - специальность, докторантура - специальность)</dc:title>
</cp:coreProperties>
</file>