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A4DE-7E17-4E25-ACA0-E2E07A62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5AA7-3684-4889-AB92-785B460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2A8-FC4F-48AE-B28F-36807C87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A24-1F6D-475A-B721-68D98BA4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4D2-1B65-4F40-9C56-BBDCB197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91C-0223-44ED-A8D0-B5BB7840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739-4D21-484F-A2E5-3AB37AB5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7AD-FD75-4B7D-BE8D-2305B1A2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0858-61C0-4FBA-B6FB-BBCAE4A9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4E3-74B7-4DE0-A469-AEF85F98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B12-8CD1-457C-935B-716949EC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8D2-7795-405C-89E8-423F1CFC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2E76-F4EC-46A4-9EF1-6D9C12041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раткая информация о кандидате на государственную премию Красноярского кр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зование (вуз - специальн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ок обучения в аспирантуре (г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ласть научных инте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е количество публика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учный руковод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Научная ид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ая научная новиз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иболее значимые публикации в изданиях центральной печати, перечня ВАК ( в т.ч. за рубеж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дрение и использование результатов научных разработок на территории края (акты о внедрении, патенты, лицензирование, коммерциализа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проектах, грантах, соруководство НИР и ОКР по догово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Дости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али и дипломы конференций, конк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ационные и коммуникативные умения (организация семинаров, конференций, симпозиумов, руководство НИР студентов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астие в инновационных конкурсах и прое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Планы на будуще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нируемые науч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деи и формы реализации научных разработок в интересах социально-экономического развития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мый карьерный р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р: за предложенный (способ, метод, идею) … расширения (реализации) энергетического диапазона…, отличающийся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ировка в  одном предложении за какую собственную идею вы достойны государственной премии Краснояр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02:54:14Z</dcterms:created>
  <dc:creator>Мухамедзянова</dc:creator>
  <dc:description/>
  <dc:language>en-US</dc:language>
  <cp:lastModifiedBy>Наука</cp:lastModifiedBy>
  <dcterms:modified xsi:type="dcterms:W3CDTF">2009-03-27T07:01:57Z</dcterms:modified>
  <cp:revision>12</cp:revision>
  <dc:subject/>
  <dc:title>О себе (возраст, школа, ВУЗ, специальность)</dc:title>
</cp:coreProperties>
</file>